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E279-B159-4DFD-BA2A-B394AFC43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2C46-7301-4B93-B0D4-41B361A72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5356-BA1A-44A7-A126-4BC37D180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16A2-FC39-42FD-90E5-6D9D9E00B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95C01-90A6-4B51-954A-A8DC741C7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2EFA6-7316-4F0F-80D9-D56150EF0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902FA-2156-42F6-B59D-8FE8EF671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90D14-7638-4228-B6D7-30BA5ADF5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DF7C7-E34B-4676-9F60-3888BC2CA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40130-70DC-4124-B8A8-7DA0BFBCE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DE672-A7C8-43A6-8549-E928ABECB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3A66-F9E7-4225-A65B-CA30BE8C8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CD202-B609-4AFB-AE29-D3816743D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05292-A0F6-41C6-827A-BB885B77B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8A253-7637-4FAA-8654-C9A5EFBB0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892B0-ADA9-4F32-BEF0-7F5AC3F05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A5515-0299-408E-A3C8-0CB5FE3FA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0C6B-F5C0-4003-BAA0-20422D657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DE47-35B3-41A3-99A9-7B8A8474B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1234-FD34-4F3B-97CA-B546D7507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B9AD-B7FA-4C5C-B074-0ECE6DD64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F3CF-5EED-48DD-9DE8-E4F8882D5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C235-96D3-4432-BD71-3DC826689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7F4E-0416-4244-B2F1-7720E20BC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A8354-747E-4CA9-9EEA-2B6E9F1AE6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885A1-7D05-4451-9D4F-3E1A9BBE36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T MIEL HYP 10001.pdf" TargetMode="Externa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T MIEL HYP 20001.pdf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T MIEL HYP 30001.pdf" TargetMode="External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T MIEL HYP 40001.pdf" TargetMode="External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T MEI HYP 1.pdf" TargetMode="External"/><Relationship Id="rId3" Type="http://schemas.openxmlformats.org/officeDocument/2006/relationships/hyperlink" Target="T MEI HYP 2.pdf" TargetMode="External"/><Relationship Id="rId4" Type="http://schemas.openxmlformats.org/officeDocument/2006/relationships/hyperlink" Target="T MEI HYP 3.pdf" TargetMode="External"/><Relationship Id="rId5" Type="http://schemas.openxmlformats.org/officeDocument/2006/relationships/hyperlink" Target="T MEI HYP 4.pdf" TargetMode="External"/><Relationship Id="rId6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2 La pouss&#233;e d&apos;archim&#232;de prof.doc" TargetMode="External"/><Relationship Id="rId3" Type="http://schemas.openxmlformats.org/officeDocument/2006/relationships/hyperlink" Target="4 Eval COR.doc" TargetMode="External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1 investigation &#233;l&#232;ve.doc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Démarche d’investigation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dule T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ent se déplacer dans un fluid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mière difficulté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che des élèves trop globa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gn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oler un paramètre dans l’hypothè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er une expérience et une liste de matéri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vail de groupe (2 à 4 élèves au choix des élèves) pendan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 minut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rculation pour affiner les propositions des élèv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2000"/>
                            </p:stCondLst>
                            <p:childTnLst>
                              <p:par>
                                <p:cTn id="254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uxième restitution : (15 minutes) 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othèse 1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« c’est à cause de la pression de l’eau » : plus on s’enfonce dans l’eau, plus l’eau nous repouss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mètre étudié : la pression de l’ea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ériel envisagé : divers récipients, eau, flacon rempli d’ai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3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7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000"/>
                            </p:stCondLst>
                            <p:childTnLst>
                              <p:par>
                                <p:cTn id="28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1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500"/>
                            </p:stCondLst>
                            <p:childTnLst>
                              <p:par>
                                <p:cTn id="29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5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uxième restitution : (15 minutes)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othèse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« c’est grâce à la forme de la coque » :selon sa forme, un objet peut ou pas flotte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mètre étudié : volume à masse constan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ériel envisagé : 2 récipients, eau, balance, pâte à model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2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500"/>
                            </p:stCondLst>
                            <p:childTnLst>
                              <p:par>
                                <p:cTn id="30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6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000"/>
                            </p:stCondLst>
                            <p:childTnLst>
                              <p:par>
                                <p:cTn id="30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0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500"/>
                            </p:stCondLst>
                            <p:childTnLst>
                              <p:par>
                                <p:cTn id="31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4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uxième restitution : (15 minutes)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othèse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« c’est à cause de l’air contenu dans le bateau » :si on met des brassards à un enfant, il flotte donc l’air fait flotte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ion contradictoi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odification de la proposition : « en fonction de sa masse volumique, un objet peut flotter 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mètre étudié : masse volumiq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ériel envisagé : 2 flacons identiques, eau, récip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1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500"/>
                            </p:stCondLst>
                            <p:childTnLst>
                              <p:par>
                                <p:cTn id="32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5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0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5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9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1000"/>
                            </p:stCondLst>
                            <p:childTnLst>
                              <p:par>
                                <p:cTn id="34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3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uxième restitution : (15 minutes)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othèse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«le liquide influe sur la flottabilité des objets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mètre étudié : masse volumique du liqu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ériel envisagé : eau, huile, sel, pate à modeler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0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500"/>
                            </p:stCondLst>
                            <p:childTnLst>
                              <p:par>
                                <p:cTn id="35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4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1000"/>
                            </p:stCondLst>
                            <p:childTnLst>
                              <p:par>
                                <p:cTn id="35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8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1500"/>
                            </p:stCondLst>
                            <p:childTnLst>
                              <p:par>
                                <p:cTn id="36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2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e en œuvr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groupes de 4 élèves par hypothè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se à disposition de la pâte à modeler, d’une bal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ériel emprunté en cuis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4" dur="8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5" dur="8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6" dur="8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200"/>
                            </p:stCondLst>
                            <p:childTnLst>
                              <p:par>
                                <p:cTn id="37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0" dur="8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1" dur="8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2" dur="8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3040"/>
                            </p:stCondLst>
                            <p:childTnLst>
                              <p:par>
                                <p:cTn id="38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6" dur="8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7" dur="8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8" dur="8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e en œuvr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r les 10 minutes restant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ectuer les expériences prévu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éfléchir à un meilleur dispositif afin d’affiner les résulta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évoir des mesures à faire en salle de sciences (prochaine séance en group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0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500"/>
                            </p:stCondLst>
                            <p:childTnLst>
                              <p:par>
                                <p:cTn id="39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2000"/>
                            </p:stCondLst>
                            <p:childTnLst>
                              <p:par>
                                <p:cTn id="40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3500"/>
                            </p:stCondLst>
                            <p:childTnLst>
                              <p:par>
                                <p:cTn id="40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uxième séanc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e dédoublé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gn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ndant 25 minut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vaux en groupe poursuiv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sure des paramèt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édaction d’un compte rend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 25 dernières minut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ésentation de chaque expérience au table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idation ou non de l’hypothè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0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1000"/>
                            </p:stCondLst>
                            <p:childTnLst>
                              <p:par>
                                <p:cTn id="43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4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1500"/>
                            </p:stCondLst>
                            <p:childTnLst>
                              <p:par>
                                <p:cTn id="43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8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1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4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9" dur="5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2" dur="5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5" dur="500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ésentation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2"/>
              </a:rPr>
              <a:t>Hypothèse 1: « c’est à cause de la pression de l’eau 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asse. Les élèves ne parviennent pas à montrer l’évolution de la press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uses 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ériel choisi inadapt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éconnaissance des phénomènes de pression (suite du programm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uvaise piste ??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0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2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2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20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2000"/>
                            </p:stCondLst>
                            <p:childTnLst>
                              <p:par>
                                <p:cTn id="4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20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4000"/>
                            </p:stCondLst>
                            <p:childTnLst>
                              <p:par>
                                <p:cTn id="485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20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7500"/>
                            </p:stCondLst>
                            <p:childTnLst>
                              <p:par>
                                <p:cTn id="489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ésentation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2"/>
              </a:rPr>
              <a:t>Hypothèse 2:« c’est grâce à la forme de la coque 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ccès: les élèves montrent bien l’influence de la forme de la coq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ément manquant: mesure de volu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0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2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2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2000"/>
                            </p:stCondLst>
                            <p:childTnLst>
                              <p:par>
                                <p:cTn id="505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301680" y="1676520"/>
            <a:ext cx="8540640" cy="4422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3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ésentation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2"/>
              </a:rPr>
              <a:t>Hypothèse 3: « en fonction de sa masse volumique, un objet peut flotter 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tigé : les élèves remplissent plus ou moins les flacons et montrent une immersion partielle ou tota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ément manquant : la mesure de la masse volumique pour définir une limite à la flottabilit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0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2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2000"/>
                            </p:stCondLst>
                            <p:childTnLst>
                              <p:par>
                                <p:cTn id="521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ésentation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2"/>
              </a:rPr>
              <a:t>Hypothèse 4: « le liquide influe sur la flottabilité des objets 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tigé : la pâte à modeler coule quelque soit le liqu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ément manquant : mesure de la poussée exercée par le liquide à l’aide d’un dynamomètre 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0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2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2000"/>
                            </p:stCondLst>
                            <p:childTnLst>
                              <p:par>
                                <p:cTn id="537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ns la classe de 21 élèves…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2"/>
              </a:rPr>
              <a:t>Hypothèse 1: La nature du liquide a une influ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3"/>
              </a:rPr>
              <a:t>Hypothèse 2: La masse doit être bien répart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4"/>
              </a:rPr>
              <a:t>Hypothèse 3: La forme de la coque a une incid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5"/>
              </a:rPr>
              <a:t>Hypothèse 4: L’eau exerce une poussé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fill="hold">
                      <p:stCondLst>
                        <p:cond delay="0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2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LAN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stigation à 33 élèv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que de précision dans les expérien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s ou peu de mes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per activité du prof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ès mitig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stigation à 21 élèv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ériences plus approfond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 plus z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ifs attei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1000"/>
                            </p:stCondLst>
                            <p:childTnLst>
                              <p:par>
                                <p:cTn id="584" nodeType="after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6" dur="1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3000"/>
                            </p:stCondLst>
                            <p:childTnLst>
                              <p:par>
                                <p:cTn id="590" nodeType="after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2" dur="1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5000"/>
                            </p:stCondLst>
                            <p:childTnLst>
                              <p:par>
                                <p:cTn id="596" nodeType="after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1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7000"/>
                            </p:stCondLst>
                            <p:childTnLst>
                              <p:par>
                                <p:cTn id="602" nodeType="after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10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1" dur="10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1000"/>
                            </p:stCondLst>
                            <p:childTnLst>
                              <p:par>
                                <p:cTn id="61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7" dur="1000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2000"/>
                            </p:stCondLst>
                            <p:childTnLst>
                              <p:par>
                                <p:cTn id="6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3" dur="1000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3000"/>
                            </p:stCondLst>
                            <p:childTnLst>
                              <p:par>
                                <p:cTn id="6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9" dur="1000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éinvestissement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2"/>
              </a:rPr>
              <a:t>Pour le cou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 expériences ont été refaites par certains élè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réhension plus rap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cipation des élèves très bon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3"/>
              </a:rPr>
              <a:t>Eval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fill="hold">
                      <p:stCondLst>
                        <p:cond delay="0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8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1000"/>
                            </p:stCondLst>
                            <p:childTnLst>
                              <p:par>
                                <p:cTn id="649" nodeType="after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1" dur="1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3000"/>
                            </p:stCondLst>
                            <p:childTnLst>
                              <p:par>
                                <p:cTn id="655" nodeType="after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7" dur="10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5000"/>
                            </p:stCondLst>
                            <p:childTnLst>
                              <p:par>
                                <p:cTn id="661" nodeType="after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3" dur="10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0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e en plac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exempl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e de 33 élèves (2 filières mixé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e de 21 élèves de Terminale ME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évisions avant séance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érience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er des matériaux de densités différentes (CDI) puis vérifier expérimental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érience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apter la forme de l’obj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érience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surer le volume d’eau déplac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571500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ériel: Pâte à modeler, éprouvettes, ba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7" dur="5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0" dur="5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se de 33 élève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éambul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mière séance en classe entière de l’anné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P de la cla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pe de 17 élèves ELEEC conn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pe de 16 élèves MIC nouvea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lle classiqu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s de matériel à proximit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istot mis dans la confidence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7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1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16" presetSubtype="2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5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3000"/>
                            </p:stCondLst>
                            <p:childTnLst>
                              <p:par>
                                <p:cTn id="77" nodeType="afterEffect" fill="hold" presetClass="entr" presetID="16" presetSubtype="2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9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0"/>
                            </p:stCondLst>
                            <p:childTnLst>
                              <p:par>
                                <p:cTn id="81" nodeType="afterEffect" fill="hold" presetClass="entr" presetID="16" presetSubtype="2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3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7000"/>
                            </p:stCondLst>
                            <p:childTnLst>
                              <p:par>
                                <p:cTn id="85" nodeType="afterEffect" fill="hold" presetClass="entr" presetID="16" presetSubtype="2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7" dur="5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9000"/>
                            </p:stCondLst>
                            <p:childTnLst>
                              <p:par>
                                <p:cTn id="89" nodeType="afterEffect" fill="hold" presetClass="entr" presetID="16" presetSubtype="2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1" dur="50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1000"/>
                            </p:stCondLst>
                            <p:childTnLst>
                              <p:par>
                                <p:cTn id="93" nodeType="afterEffect" fill="hold" presetClass="entr" presetID="16" presetSubtype="2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5" dur="500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se de 33 élève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tendus de la séanc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vaux de grou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e hypothèse de travail par grou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e expérience par groupe doit être réalisé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 compte rendu individu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2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6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6" presetSubtype="2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0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3000"/>
                            </p:stCondLst>
                            <p:childTnLst>
                              <p:par>
                                <p:cTn id="112" nodeType="afterEffect" fill="hold" presetClass="entr" presetID="16" presetSubtype="2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4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16" nodeType="afterEffect" fill="hold" presetClass="entr" presetID="16" presetSubtype="2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8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émarrage de la séanc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2"/>
              </a:rPr>
              <a:t>Distribution du docu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gn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er par écrit une hypothè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éflexion en binôme ou à 4 (liberté des élèves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 minut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titution du travail de recherche à l’oral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 à 10 minu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400"/>
                            </p:stCondLst>
                            <p:childTnLst>
                              <p:par>
                                <p:cTn id="13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entr" presetID="4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èses de travail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ition 1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 c’est à cause du poids de l’eau sur la surface du bateau qui est rempli d’air donc il flotte »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stions prof 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 : combien y a-t-il de paramètres dans cette proposition 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 : quelle expérience peut-on faire pour confirmer ou infirmer cette hypothèse 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if : amener les élèves à recentrer leur réflexion sur un seul paramètre afin de rendre l’expérience possible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èses de travail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osi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« la terre attire les objets vers le bas donc le bateau reste à la surface »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stion prof : A-t-on un seul paramètre 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ion autour de l’intérêt de cette proposi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if : amener les élèves à écarter les propositions les plus éloignées de la situatio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ycée Sully</cp:lastModifiedBy>
  <dcterms:modified xsi:type="dcterms:W3CDTF">2011-09-28T15:46:4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